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1F3-8C4F-4BEE-9AAE-37996DD4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7BC-58BE-4048-AAB6-93161E4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55D-9297-47E4-949E-5681ADE8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698-281C-4396-A6E3-5813AA9E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718-458E-4E79-A3BA-A9730E90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D91-B4BC-424A-97FA-FA0DB3A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825-1877-461E-A568-F2C0C8F4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EDB8-8F02-4310-9605-2DC479C7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AD8E-F232-46B6-9A5D-4BF418B9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4A6E-3896-4684-8F75-B065E63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6A60-01C5-4384-8150-C116B4A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89F-642A-4303-8299-32EEC5C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7C36-EF8F-4C85-93FC-F584C69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9089-77DF-49BC-B3C0-F1F08E8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2288-D1D6-453F-B86C-1F719EAB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E9ED-95B7-4A68-81F4-5D7F7D17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32E-7D10-42F1-BD19-BAAD20FB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9F0-97FC-40F9-B5D5-058B79E0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B98-B87B-44A8-B59A-A439021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35C-D93B-458B-91BD-90311D95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C63-7FF7-492D-B8E4-1AEDBE99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651-5EFD-4FD3-927A-6844F3A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289-3F64-40F1-930D-901EEDE3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BBF-1A78-4598-B05E-70E6FEA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005C-6D51-483C-B1AB-CCB38334DEE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70D-3A8D-4567-AF92-657F894077D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1640" y="1353960"/>
            <a:ext cx="76327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e s-ar petrece in intreaga lume daca nu ar exista CARTEA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500720" cy="51847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Verdana"/>
              </a:rPr>
              <a:t>Scopul proiectului este de a arata elevilor,ca invatatura le este de folos in toate treburile vietii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Cartea este obiectul cultural al elevilor.Ea realizeaza viitorul multor omeniri,si ii indruma pe drumul cel bu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06400" y="7128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9736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n elev pleaca de la scoala mai destept decat a venit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2050920"/>
            <a:ext cx="40384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Rolul cartii este de a ajuta elevi in pasii catre noua imagine in viata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7320" y="1700280"/>
            <a:ext cx="43434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ara carte lumea ar vorbi foarte nepoliticos,urat sau chiar mai ra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319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Verdana"/>
              </a:rPr>
              <a:t>Aici proiectul s-a sfarsit iar eu va multumesc ca ati acceptat sa imi acordati putin timp in ceea ce am avut de spu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06400" y="7128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8320" y="2116080"/>
            <a:ext cx="403848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6:49:30Z</dcterms:created>
  <dc:creator>user</dc:creator>
  <dc:description/>
  <dc:language>en-US</dc:language>
  <cp:lastModifiedBy>user</cp:lastModifiedBy>
  <dcterms:modified xsi:type="dcterms:W3CDTF">2010-10-13T18:05:31Z</dcterms:modified>
  <cp:revision>3</cp:revision>
  <dc:subject/>
  <dc:title>Diapozitivul 1</dc:title>
</cp:coreProperties>
</file>